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dt" idx="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ftr" idx="1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 type="sldNum" idx="1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4FF0C-2A60-4311-BC39-C2E0F6E54D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FE78D-BF8A-4B14-BEDC-518621F8B3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65586-C820-4E28-8ECB-3C0F4E3E6B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39E48-8B94-46F0-965E-C59A9BB7F7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B1AA4-D305-48F3-8AC9-CD5CA43A0B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68A93-A4E4-4843-A52E-678B37A3F2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CE9D6-C6A2-4491-B422-90980CADF5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30317-36EA-46AE-953D-C87AB1A167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5DCDA-D52E-4260-B520-C750E1F6EE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2DFB9-BD34-4435-9EB0-0E93663FFA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990720" y="3045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59280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19488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99072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59280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19488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9280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9488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9072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9280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9488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990720" y="3045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9280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9488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99072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9280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9488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990720" y="3045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9280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9488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99072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9280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9488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990720" y="3045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59280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9488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99072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59280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19488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990720" y="3045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90720" y="3045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59280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19488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99072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59280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19488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990720" y="3045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59280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19488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99072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59280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19488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990720" y="3045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59280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19488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99072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59280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19488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990720" y="3045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59280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19488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99072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59280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19488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9360">
            <a:solidFill>
              <a:srgbClr val="604b9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04b9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987120" y="6244920"/>
            <a:ext cx="76993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6508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abb92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6508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bb921"/>
                </a:solidFill>
                <a:latin typeface="Times New Roman"/>
              </a:rPr>
              <a:t>Lesson                                                                       </a:t>
            </a:r>
            <a:r>
              <a:rPr b="1" lang="en-US" sz="1200" spc="-1" strike="noStrike">
                <a:solidFill>
                  <a:srgbClr val="abb921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abb921"/>
                </a:solidFill>
                <a:latin typeface="Times New Roman"/>
              </a:rPr>
              <a:t>       </a:t>
            </a:r>
            <a:r>
              <a:rPr b="1" lang="en-US" sz="1400" spc="-1" strike="noStrike">
                <a:solidFill>
                  <a:srgbClr val="abb921"/>
                </a:solidFill>
                <a:latin typeface="Times New Roman"/>
              </a:rPr>
              <a:t>Slide </a:t>
            </a:r>
            <a:fld id="{85136532-CA63-4A02-AE58-C1A5E52A6515}" type="slidenum">
              <a:rPr b="1" lang="en-US" sz="1400" spc="-1" strike="noStrike">
                <a:solidFill>
                  <a:srgbClr val="abb921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Line 8"/>
          <p:cNvSpPr/>
          <p:nvPr/>
        </p:nvSpPr>
        <p:spPr>
          <a:xfrm>
            <a:off x="990720" y="1447920"/>
            <a:ext cx="7696080" cy="0"/>
          </a:xfrm>
          <a:prstGeom prst="line">
            <a:avLst/>
          </a:prstGeom>
          <a:ln w="38160">
            <a:solidFill>
              <a:srgbClr val="604b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7" descr="new layout art3.png"/>
          <p:cNvPicPr/>
          <p:nvPr/>
        </p:nvPicPr>
        <p:blipFill>
          <a:blip r:embed="rId2"/>
          <a:stretch/>
        </p:blipFill>
        <p:spPr>
          <a:xfrm>
            <a:off x="0" y="0"/>
            <a:ext cx="93024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8"/>
          <p:cNvSpPr/>
          <p:nvPr/>
        </p:nvSpPr>
        <p:spPr>
          <a:xfrm>
            <a:off x="990720" y="1447920"/>
            <a:ext cx="7696080" cy="0"/>
          </a:xfrm>
          <a:prstGeom prst="line">
            <a:avLst/>
          </a:prstGeom>
          <a:ln w="38160">
            <a:solidFill>
              <a:srgbClr val="604b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7" descr="new layout art3.png"/>
          <p:cNvPicPr/>
          <p:nvPr/>
        </p:nvPicPr>
        <p:blipFill>
          <a:blip r:embed="rId2"/>
          <a:stretch/>
        </p:blipFill>
        <p:spPr>
          <a:xfrm>
            <a:off x="0" y="0"/>
            <a:ext cx="93024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6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9360">
            <a:solidFill>
              <a:srgbClr val="604b9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04b9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Line 8"/>
          <p:cNvSpPr/>
          <p:nvPr/>
        </p:nvSpPr>
        <p:spPr>
          <a:xfrm>
            <a:off x="990720" y="1447920"/>
            <a:ext cx="7696080" cy="0"/>
          </a:xfrm>
          <a:prstGeom prst="line">
            <a:avLst/>
          </a:prstGeom>
          <a:ln w="38160">
            <a:solidFill>
              <a:srgbClr val="604b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7" descr="new layout art3.png"/>
          <p:cNvPicPr/>
          <p:nvPr/>
        </p:nvPicPr>
        <p:blipFill>
          <a:blip r:embed="rId2"/>
          <a:stretch/>
        </p:blipFill>
        <p:spPr>
          <a:xfrm>
            <a:off x="0" y="0"/>
            <a:ext cx="93024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9360">
            <a:solidFill>
              <a:srgbClr val="604b9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04b9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2"/>
          </p:nvPr>
        </p:nvSpPr>
        <p:spPr>
          <a:xfrm>
            <a:off x="972720" y="6244920"/>
            <a:ext cx="771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6508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abb92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6508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bb921"/>
                </a:solidFill>
                <a:latin typeface="Times New Roman"/>
              </a:rPr>
              <a:t>Lesso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abb921"/>
                </a:solidFill>
                <a:latin typeface="Times New Roman"/>
              </a:rPr>
              <a:t>Slide </a:t>
            </a:r>
            <a:fld id="{002BB1CB-B504-4C84-843B-939DB8734279}" type="slidenum">
              <a:rPr b="1" lang="en-US" sz="1400" spc="-1" strike="noStrike">
                <a:solidFill>
                  <a:srgbClr val="abb921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Line 8"/>
          <p:cNvSpPr/>
          <p:nvPr/>
        </p:nvSpPr>
        <p:spPr>
          <a:xfrm>
            <a:off x="990720" y="1447920"/>
            <a:ext cx="7696080" cy="0"/>
          </a:xfrm>
          <a:prstGeom prst="line">
            <a:avLst/>
          </a:prstGeom>
          <a:ln w="38160">
            <a:solidFill>
              <a:srgbClr val="604b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7" descr="new layout art3.png"/>
          <p:cNvPicPr/>
          <p:nvPr/>
        </p:nvPicPr>
        <p:blipFill>
          <a:blip r:embed="rId2"/>
          <a:stretch/>
        </p:blipFill>
        <p:spPr>
          <a:xfrm>
            <a:off x="0" y="0"/>
            <a:ext cx="93024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9360">
            <a:solidFill>
              <a:srgbClr val="604b9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04b9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ftr" idx="3"/>
          </p:nvPr>
        </p:nvSpPr>
        <p:spPr>
          <a:xfrm>
            <a:off x="987120" y="6244920"/>
            <a:ext cx="76993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6508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6508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573A7BB0-BEFF-4FE7-871B-14F9686B1F3C}" type="slidenum"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Line 8"/>
          <p:cNvSpPr/>
          <p:nvPr/>
        </p:nvSpPr>
        <p:spPr>
          <a:xfrm>
            <a:off x="990720" y="1447920"/>
            <a:ext cx="7696080" cy="0"/>
          </a:xfrm>
          <a:prstGeom prst="line">
            <a:avLst/>
          </a:prstGeom>
          <a:ln w="38160">
            <a:solidFill>
              <a:srgbClr val="604b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7" descr="new layout art3.png"/>
          <p:cNvPicPr/>
          <p:nvPr/>
        </p:nvPicPr>
        <p:blipFill>
          <a:blip r:embed="rId2"/>
          <a:stretch/>
        </p:blipFill>
        <p:spPr>
          <a:xfrm>
            <a:off x="0" y="0"/>
            <a:ext cx="930240" cy="685800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9360">
            <a:solidFill>
              <a:srgbClr val="604b9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04b9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ftr" idx="4"/>
          </p:nvPr>
        </p:nvSpPr>
        <p:spPr>
          <a:xfrm>
            <a:off x="987120" y="6244920"/>
            <a:ext cx="76993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6508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abb92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6508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bb921"/>
                </a:solidFill>
                <a:latin typeface="Times New Roman"/>
              </a:rPr>
              <a:t>                                                                                 </a:t>
            </a:r>
            <a:r>
              <a:rPr b="1" lang="en-US" sz="1400" spc="-1" strike="noStrike">
                <a:solidFill>
                  <a:srgbClr val="abb921"/>
                </a:solidFill>
                <a:latin typeface="Times New Roman"/>
              </a:rPr>
              <a:t>Slide </a:t>
            </a:r>
            <a:fld id="{AB567CE9-2749-4900-B615-72779B52E10F}" type="slidenum">
              <a:rPr b="1" lang="en-US" sz="1400" spc="-1" strike="noStrike">
                <a:solidFill>
                  <a:srgbClr val="abb921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Line 8"/>
          <p:cNvSpPr/>
          <p:nvPr/>
        </p:nvSpPr>
        <p:spPr>
          <a:xfrm>
            <a:off x="990720" y="1447920"/>
            <a:ext cx="7696080" cy="0"/>
          </a:xfrm>
          <a:prstGeom prst="line">
            <a:avLst/>
          </a:prstGeom>
          <a:ln w="38160">
            <a:solidFill>
              <a:srgbClr val="604b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7" descr="new layout art3.png"/>
          <p:cNvPicPr/>
          <p:nvPr/>
        </p:nvPicPr>
        <p:blipFill>
          <a:blip r:embed="rId2"/>
          <a:stretch/>
        </p:blipFill>
        <p:spPr>
          <a:xfrm>
            <a:off x="0" y="0"/>
            <a:ext cx="930240" cy="685800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9360">
            <a:solidFill>
              <a:srgbClr val="604b9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04b9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ftr" idx="5"/>
          </p:nvPr>
        </p:nvSpPr>
        <p:spPr>
          <a:xfrm>
            <a:off x="987120" y="6244920"/>
            <a:ext cx="76993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6508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6508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3CDE8DA6-DF85-40BE-B5C5-F227B44CB61D}" type="slidenum"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Line 8"/>
          <p:cNvSpPr/>
          <p:nvPr/>
        </p:nvSpPr>
        <p:spPr>
          <a:xfrm>
            <a:off x="990720" y="1447920"/>
            <a:ext cx="7696080" cy="0"/>
          </a:xfrm>
          <a:prstGeom prst="line">
            <a:avLst/>
          </a:prstGeom>
          <a:ln w="38160">
            <a:solidFill>
              <a:srgbClr val="604b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7" descr="new layout art3.png"/>
          <p:cNvPicPr/>
          <p:nvPr/>
        </p:nvPicPr>
        <p:blipFill>
          <a:blip r:embed="rId2"/>
          <a:stretch/>
        </p:blipFill>
        <p:spPr>
          <a:xfrm>
            <a:off x="0" y="0"/>
            <a:ext cx="930240" cy="685800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9360">
            <a:solidFill>
              <a:srgbClr val="604b9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04b9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ftr" idx="6"/>
          </p:nvPr>
        </p:nvSpPr>
        <p:spPr>
          <a:xfrm>
            <a:off x="987120" y="6244920"/>
            <a:ext cx="76993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6508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6508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E9179582-4305-47C4-A903-5205C6BC445F}" type="slidenum"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Line 8"/>
          <p:cNvSpPr/>
          <p:nvPr/>
        </p:nvSpPr>
        <p:spPr>
          <a:xfrm>
            <a:off x="990720" y="1447920"/>
            <a:ext cx="7696080" cy="0"/>
          </a:xfrm>
          <a:prstGeom prst="line">
            <a:avLst/>
          </a:prstGeom>
          <a:ln w="38160">
            <a:solidFill>
              <a:srgbClr val="604b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Picture 7" descr="new layout art3.png"/>
          <p:cNvPicPr/>
          <p:nvPr/>
        </p:nvPicPr>
        <p:blipFill>
          <a:blip r:embed="rId2"/>
          <a:stretch/>
        </p:blipFill>
        <p:spPr>
          <a:xfrm>
            <a:off x="0" y="0"/>
            <a:ext cx="930240" cy="685800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9360">
            <a:solidFill>
              <a:srgbClr val="604b9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04b9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7"/>
          </p:nvPr>
        </p:nvSpPr>
        <p:spPr>
          <a:xfrm>
            <a:off x="987120" y="6244920"/>
            <a:ext cx="76993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6508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abb92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6508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bb921"/>
                </a:solidFill>
                <a:latin typeface="Times New Roman"/>
              </a:rPr>
              <a:t>                                                                                 </a:t>
            </a:r>
            <a:r>
              <a:rPr b="1" lang="en-US" sz="1400" spc="-1" strike="noStrike">
                <a:solidFill>
                  <a:srgbClr val="abb921"/>
                </a:solidFill>
                <a:latin typeface="Times New Roman"/>
              </a:rPr>
              <a:t>Slide </a:t>
            </a:r>
            <a:fld id="{45A4788A-5467-4408-BAA8-D0AB077AD632}" type="slidenum">
              <a:rPr b="1" lang="en-US" sz="1400" spc="-1" strike="noStrike">
                <a:solidFill>
                  <a:srgbClr val="abb921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Line 8"/>
          <p:cNvSpPr/>
          <p:nvPr/>
        </p:nvSpPr>
        <p:spPr>
          <a:xfrm>
            <a:off x="990720" y="1447920"/>
            <a:ext cx="7696080" cy="0"/>
          </a:xfrm>
          <a:prstGeom prst="line">
            <a:avLst/>
          </a:prstGeom>
          <a:ln w="38160">
            <a:solidFill>
              <a:srgbClr val="604b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9" name="Picture 7" descr="new layout art3.png"/>
          <p:cNvPicPr/>
          <p:nvPr/>
        </p:nvPicPr>
        <p:blipFill>
          <a:blip r:embed="rId2"/>
          <a:stretch/>
        </p:blipFill>
        <p:spPr>
          <a:xfrm>
            <a:off x="0" y="0"/>
            <a:ext cx="930240" cy="685800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9360">
            <a:solidFill>
              <a:srgbClr val="604b9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04b9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ftr" idx="8"/>
          </p:nvPr>
        </p:nvSpPr>
        <p:spPr>
          <a:xfrm>
            <a:off x="987120" y="6244920"/>
            <a:ext cx="76993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6508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6508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80AE117B-A9C7-47B2-ABD2-C6F77E263B7F}" type="slidenum"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ubTitle"/>
          </p:nvPr>
        </p:nvSpPr>
        <p:spPr>
          <a:xfrm>
            <a:off x="189000" y="5762160"/>
            <a:ext cx="8766000" cy="87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apter 2: Finding and Organizing Information –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Lesson 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4"/>
          <p:cNvSpPr/>
          <p:nvPr/>
        </p:nvSpPr>
        <p:spPr>
          <a:xfrm>
            <a:off x="5032440" y="6566040"/>
            <a:ext cx="41115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, 2006 South-Western, Cengage Lear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Organizing your Digital Space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should create folders to organize your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so, create subfolders to keep information neat and easy to fi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es/Folders should be named something that is easy to remember and represents cont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Footer Placeholder 3"/>
          <p:cNvSpPr/>
          <p:nvPr/>
        </p:nvSpPr>
        <p:spPr>
          <a:xfrm>
            <a:off x="973080" y="6245280"/>
            <a:ext cx="771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6508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bb921"/>
                </a:solidFill>
                <a:latin typeface="Arial"/>
              </a:rPr>
              <a:t>Lesson  6</a:t>
            </a:r>
            <a:r>
              <a:rPr b="1" lang="en-US" sz="12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abb921"/>
                </a:solidFill>
                <a:latin typeface="Arial"/>
              </a:rPr>
              <a:t>          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Slide </a:t>
            </a:r>
            <a:fld id="{8619B227-3FAC-4872-8FDD-70BCA481A4C5}" type="slidenum">
              <a:rPr b="1" lang="en-US" sz="1400" spc="-1" strike="noStrike">
                <a:solidFill>
                  <a:srgbClr val="abb9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9360">
            <a:solidFill>
              <a:srgbClr val="604b9c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Creating Folders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990360" y="1514520"/>
            <a:ext cx="3771720" cy="46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Windows Vis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rt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oc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and window by resizing outw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ews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edium Ic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new fold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ganize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New Fol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y name of fol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t. click, Re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4914720" y="1569960"/>
            <a:ext cx="3771720" cy="455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Arial"/>
              </a:rPr>
              <a:t>Windows X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rt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y Doc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and window by resizing outw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ew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umbna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new fold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a new fol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e, New, Fol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y name of fol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t. Click, Re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Footer Placeholder 3"/>
          <p:cNvSpPr/>
          <p:nvPr/>
        </p:nvSpPr>
        <p:spPr>
          <a:xfrm>
            <a:off x="987480" y="6245280"/>
            <a:ext cx="76993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6508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bb921"/>
                </a:solidFill>
                <a:latin typeface="Arial"/>
              </a:rPr>
              <a:t>Lesson 6</a:t>
            </a:r>
            <a:r>
              <a:rPr b="1" lang="en-US" sz="12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abb921"/>
                </a:solidFill>
                <a:latin typeface="Arial"/>
              </a:rPr>
              <a:t>          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Slide </a:t>
            </a:r>
            <a:fld id="{963C54D7-087A-49EE-A5E9-37E628AF085E}" type="slidenum">
              <a:rPr b="1" lang="en-US" sz="1400" spc="-1" strike="noStrike">
                <a:solidFill>
                  <a:srgbClr val="abb9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9360">
            <a:solidFill>
              <a:srgbClr val="604b9c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Deleting Folders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990360" y="1600200"/>
            <a:ext cx="3771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Windows Vis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Fol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ganize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lete, answer Yes to send to recycle b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t. Click, Dele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4914720" y="1600200"/>
            <a:ext cx="3771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Windows X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Folders button &amp; select specific fol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Delete, Yes send to recycle b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t. Click, Dele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Footer Placeholder 4"/>
          <p:cNvSpPr/>
          <p:nvPr/>
        </p:nvSpPr>
        <p:spPr>
          <a:xfrm>
            <a:off x="987480" y="6245280"/>
            <a:ext cx="76993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6508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lide </a:t>
            </a:r>
            <a:fld id="{DCF91355-6429-4577-9CAA-EEFFD658A629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Delete Files and Folders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90" name="Footer Placeholder 3"/>
          <p:cNvSpPr/>
          <p:nvPr/>
        </p:nvSpPr>
        <p:spPr>
          <a:xfrm>
            <a:off x="973080" y="6245280"/>
            <a:ext cx="771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6508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bb921"/>
                </a:solidFill>
                <a:latin typeface="Arial"/>
              </a:rPr>
              <a:t>Lesson 6</a:t>
            </a:r>
            <a:r>
              <a:rPr b="1" lang="en-US" sz="12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abb921"/>
                </a:solidFill>
                <a:latin typeface="Arial"/>
              </a:rPr>
              <a:t>          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Slide </a:t>
            </a:r>
            <a:fld id="{9CAFC0AC-3107-44E5-95C9-3B1942713A90}" type="slidenum">
              <a:rPr b="1" lang="en-US" sz="1400" spc="-1" strike="noStrike">
                <a:solidFill>
                  <a:srgbClr val="abb9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1" name="Picture 5" descr=""/>
          <p:cNvPicPr/>
          <p:nvPr/>
        </p:nvPicPr>
        <p:blipFill>
          <a:blip r:embed="rId1"/>
          <a:stretch/>
        </p:blipFill>
        <p:spPr>
          <a:xfrm>
            <a:off x="990720" y="1792440"/>
            <a:ext cx="7696080" cy="41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9360">
            <a:solidFill>
              <a:srgbClr val="604b9c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Renaming Folders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990360" y="1600200"/>
            <a:ext cx="3771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Windows Vis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Fol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ganize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t. Click, Re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4914720" y="1600200"/>
            <a:ext cx="3771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Windows X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folders from tool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fol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Rename in File &amp; Folders Task P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e, Re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t. Click, Re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Footer Placeholder 3"/>
          <p:cNvSpPr/>
          <p:nvPr/>
        </p:nvSpPr>
        <p:spPr>
          <a:xfrm>
            <a:off x="987480" y="6245280"/>
            <a:ext cx="76993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6508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esson  6                                                 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lide </a:t>
            </a:r>
            <a:fld id="{FB11C166-B743-46EC-AA6A-998ABB8B0819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Rename Files and Folders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97" name="Footer Placeholder 3"/>
          <p:cNvSpPr/>
          <p:nvPr/>
        </p:nvSpPr>
        <p:spPr>
          <a:xfrm>
            <a:off x="973080" y="6245280"/>
            <a:ext cx="771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6508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bb921"/>
                </a:solidFill>
                <a:latin typeface="Arial"/>
              </a:rPr>
              <a:t>Lesson  6</a:t>
            </a:r>
            <a:r>
              <a:rPr b="1" lang="en-US" sz="12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abb921"/>
                </a:solidFill>
                <a:latin typeface="Arial"/>
              </a:rPr>
              <a:t>          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Slide </a:t>
            </a:r>
            <a:fld id="{5E4BA393-E75E-44D8-8E53-9BB49BD09E41}" type="slidenum">
              <a:rPr b="1" lang="en-US" sz="1400" spc="-1" strike="noStrike">
                <a:solidFill>
                  <a:srgbClr val="abb9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8" name="Picture 6" descr=""/>
          <p:cNvPicPr/>
          <p:nvPr/>
        </p:nvPicPr>
        <p:blipFill>
          <a:blip r:embed="rId1"/>
          <a:stretch/>
        </p:blipFill>
        <p:spPr>
          <a:xfrm>
            <a:off x="1703520" y="1600200"/>
            <a:ext cx="6270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Move Files and Folders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and dra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 and pas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Footer Placeholder 3"/>
          <p:cNvSpPr/>
          <p:nvPr/>
        </p:nvSpPr>
        <p:spPr>
          <a:xfrm>
            <a:off x="973080" y="6245280"/>
            <a:ext cx="771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6508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bb921"/>
                </a:solidFill>
                <a:latin typeface="Arial"/>
              </a:rPr>
              <a:t>Lesson  6</a:t>
            </a:r>
            <a:r>
              <a:rPr b="1" lang="en-US" sz="12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abb921"/>
                </a:solidFill>
                <a:latin typeface="Arial"/>
              </a:rPr>
              <a:t>          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Slide </a:t>
            </a:r>
            <a:fld id="{AD8A21DF-9165-47DE-87C1-51145D4514CA}" type="slidenum">
              <a:rPr b="1" lang="en-US" sz="1400" spc="-1" strike="noStrike">
                <a:solidFill>
                  <a:srgbClr val="abb9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2" name="Picture 5" descr=""/>
          <p:cNvPicPr/>
          <p:nvPr/>
        </p:nvPicPr>
        <p:blipFill>
          <a:blip r:embed="rId1"/>
          <a:stretch/>
        </p:blipFill>
        <p:spPr>
          <a:xfrm>
            <a:off x="1366920" y="2816280"/>
            <a:ext cx="7013520" cy="34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Copy Files and Folders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404" name="Rectangle 3"/>
          <p:cNvSpPr/>
          <p:nvPr/>
        </p:nvSpPr>
        <p:spPr>
          <a:xfrm>
            <a:off x="907920" y="1600200"/>
            <a:ext cx="7778880" cy="227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a 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rganize </a:t>
            </a:r>
            <a:r>
              <a:rPr b="1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Co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 to the new lo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rganize </a:t>
            </a:r>
            <a:r>
              <a:rPr b="1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Pas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Footer Placeholder 3"/>
          <p:cNvSpPr/>
          <p:nvPr/>
        </p:nvSpPr>
        <p:spPr>
          <a:xfrm>
            <a:off x="973080" y="6245280"/>
            <a:ext cx="771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6508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bb921"/>
                </a:solidFill>
                <a:latin typeface="Arial"/>
              </a:rPr>
              <a:t>Lesson  9</a:t>
            </a:r>
            <a:r>
              <a:rPr b="1" lang="en-US" sz="12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abb921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Slide </a:t>
            </a:r>
            <a:fld id="{45CEE23C-3FBD-49FE-BD6C-58B9DF8154C2}" type="slidenum">
              <a:rPr b="1" lang="en-US" sz="1400" spc="-1" strike="noStrike">
                <a:solidFill>
                  <a:srgbClr val="abb9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File"/>
          <p:cNvSpPr/>
          <p:nvPr/>
        </p:nvSpPr>
        <p:spPr>
          <a:xfrm>
            <a:off x="4314960" y="4454640"/>
            <a:ext cx="1490400" cy="1119240"/>
          </a:xfrm>
          <a:custGeom>
            <a:avLst/>
            <a:gdLst>
              <a:gd name="textAreaLeft" fmla="*/ 74880 w 1490400"/>
              <a:gd name="textAreaRight" fmla="*/ 1423800 w 1490400"/>
              <a:gd name="textAreaTop" fmla="*/ 239760 h 1119240"/>
              <a:gd name="textAreaBottom" fmla="*/ 1051560 h 111924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lnTo>
                  <a:pt x="19790" y="3240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File"/>
          <p:cNvSpPr/>
          <p:nvPr/>
        </p:nvSpPr>
        <p:spPr>
          <a:xfrm>
            <a:off x="6977160" y="2763720"/>
            <a:ext cx="1492200" cy="1119240"/>
          </a:xfrm>
          <a:custGeom>
            <a:avLst/>
            <a:gdLst>
              <a:gd name="textAreaLeft" fmla="*/ 74880 w 1492200"/>
              <a:gd name="textAreaRight" fmla="*/ 1425600 w 1492200"/>
              <a:gd name="textAreaTop" fmla="*/ 239760 h 1119240"/>
              <a:gd name="textAreaBottom" fmla="*/ 1051560 h 111924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lnTo>
                  <a:pt x="19790" y="3240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08" name="Straight Arrow Connector 19"/>
          <p:cNvCxnSpPr/>
          <p:nvPr/>
        </p:nvCxnSpPr>
        <p:spPr>
          <a:xfrm flipV="1">
            <a:off x="5994360" y="3903120"/>
            <a:ext cx="799200" cy="727560"/>
          </a:xfrm>
          <a:prstGeom prst="straightConnector1">
            <a:avLst/>
          </a:prstGeom>
          <a:ln w="38160">
            <a:solidFill>
              <a:srgbClr val="b6dcdf"/>
            </a:solidFill>
            <a:prstDash val="sysDash"/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4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5T20:06:45Z</dcterms:created>
  <dc:creator>Jean Bissell</dc:creator>
  <dc:description>Copyright 2006 South-Western/Thomson</dc:description>
  <dc:language>en-US</dc:language>
  <cp:lastModifiedBy>Lenessa Keehn</cp:lastModifiedBy>
  <dcterms:modified xsi:type="dcterms:W3CDTF">2011-03-24T13:54:00Z</dcterms:modified>
  <cp:revision>53</cp:revision>
  <dc:subject/>
  <dc:title>Slide 1</dc:title>
</cp:coreProperties>
</file>